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770-8642-4181-B616-0A91C900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solver will only get you so far. And as we all know from the MBA teams problem, not everything is solvable with a model.  This is a case where solver can only take you so far. This serves as a reminder that every business decision does not have a definite answer, and we can be the most technologically sophisticated quant jocks in the world, but there will still be times when you have to use a human brain to do something that a computer can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this specific instance, in something as important as a wedding, you would have to go over the results and make sure that every person sitting at a table is appropriate for that table.  You wouldn't ever just trust a program (or someone else for that matter) to do it for you perf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ial and business relevance/othe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i will be getting married in June and she needs a model that will help her to optimize the seating arrangements for the reception. There will be 150 guests in attendance. The reception hall offers the option of tables that seat 8 or 10 people. Randi is concerned about the mix of personalities at each table and therefore wants to maximize the enjoyment of all in attendance by ensuring a favorable mix of occupations, relationship to the happy couple, proclivity towards drunkenness, political affiliation and most importantly, fu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ased our model on the following gues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vs 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, crazy, Sterni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doctor, lawyer,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, social drinker, cheap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f the party, tolerable, l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just a snapshot of our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output of the frequencies of each utility at each table based on the output from evolutionary so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F95-7EBA-4FC6-B971-D6C759EF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612-965D-4DC4-882D-B3C729C5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405-AB37-4E56-A383-9F4E8331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90D-68F5-4A72-995A-B1D03D07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5476-530A-4D4B-A1AE-D640FAC3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F15-9E19-4D2A-AC0B-2642E22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AA6-3EF4-49D3-B279-A675DA85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DDFD-A062-4138-A6AA-9CBFB574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0E5-C7C9-4F6C-A964-7ED940B8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260E-E10F-47DC-AD14-BA878A2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EF48-B0A5-429F-BE18-72CBC56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CE1-C7F6-47BA-AADE-09F1734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0EDC-E4FF-4A9F-8D48-9BA44A53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2A0D-6774-46E1-B203-455AB5D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5363-376E-4628-AD90-8750DA03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7F61-AC6C-48A3-9D4A-D60663B8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E12C-4122-44E6-8D4A-909E28B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315-5EEF-4C88-85BC-D524FBF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2D4-A9B1-4206-9CEA-0E379C7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BC6-AF44-468A-A8ED-6B1E151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B26-8418-407D-8EBE-D1C7C83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F7D-9CA9-4EC1-9973-DADAE72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53C-ACC7-462E-A4DD-FAFF340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DC4-B562-459C-84AE-F1F4EEC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504-6514-4841-B059-53E9A5C4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54F-0030-48EC-B0FE-0D0FC6EC2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oly Matrimony: Maximizing Marriag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Handwriting"/>
              </a:rPr>
              <a:t>Chitra Agrawal, Jennifer Clarke, Sarah Kalter, Randi Kirtman &amp; Kimberly Schoenhal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volutionary solver will only get you so fa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odel’s complexity led to constraint limitation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Human touch still needed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Why Should You Care?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draising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hareholder Meet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Office Holiday Parti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Divorce rate is high, you may need to plan another wedding some da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Happily Ever After…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9291" r="0" b="0"/>
          <a:stretch/>
        </p:blipFill>
        <p:spPr>
          <a:xfrm>
            <a:off x="1676520" y="2133720"/>
            <a:ext cx="59436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ohabitation Constrain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hallenges Bested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Why Should You Care/Managerial Releva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Matrimonial Problem Defini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June wedding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150 guest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 utility model to maximize overall happiness of guests by optimizing mix of personaliti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BECAUSE HAPPY GUESTS PAY MORE!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Utility Function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olitical leaning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elationship to couple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fession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Propensity towards drunkennes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un factor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Solution Formulation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reated a binary matrix describing each guest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Input utility tables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UMIF formulas to capture frequency of each utility function per tabl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Used sequence of IF formulas to calculate utility of each table based on instances of occurrence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UM utility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92962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The Happy Model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995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3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Evolutionary Solver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Based on the constraints: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ach table must seat “whole” people (integer)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ere will be between 1 and 19 tables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Assume non-negativity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U Stern School of Business</cp:lastModifiedBy>
  <dcterms:modified xsi:type="dcterms:W3CDTF">2007-04-22T16:02:31Z</dcterms:modified>
  <cp:revision>16</cp:revision>
  <dc:subject/>
  <dc:title>Holy Matrimony: Maximizing Marriage</dc:title>
</cp:coreProperties>
</file>